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2684-310D-47AE-B2C7-657FE364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633C-063A-4571-B467-CFC722E2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368-41E6-4BEC-BAB4-E55D868B5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202-91D0-483A-9C6D-C4F446B1F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B56-3B41-4ED5-A2A5-A89BC91F4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0FC1-E1B7-41F9-ABF3-1DBA0AECD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D388-A831-4D93-8C7A-00B04EBB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A6A5-77DC-431C-BF10-833AC11D3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A30D-07EE-4649-AE59-4C28811A0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33C2-5F73-4832-B9BF-9BF10DF76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AF1-607C-4B78-9390-2E4ED069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6AE9-0007-46DE-8136-E77DF50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942D3-311E-407F-8B8F-B64C7EDA3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myuni Tech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lo Worl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9T02:28:59Z</dcterms:created>
  <dc:creator>Jose</dc:creator>
  <dc:description/>
  <dc:language>en-US</dc:language>
  <cp:lastModifiedBy>Jose</cp:lastModifiedBy>
  <dcterms:modified xsi:type="dcterms:W3CDTF">2006-06-29T02:29:27Z</dcterms:modified>
  <cp:revision>1</cp:revision>
  <dc:subject/>
  <dc:title>Amyuni Tech Sample</dc:title>
</cp:coreProperties>
</file>